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D6DA-71BA-4A0F-9C57-5A4672DDFB7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6266-0BEA-4692-8749-485A938FBA7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ACB3-B91F-4093-A4ED-6FB98EF9926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33D6-3E8E-4443-BC2C-823DABF220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020F-29E0-49B0-BD33-5F935624B84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F0A6-1DE1-45E2-98F2-C9C56BD50AB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E619-4B8F-487C-9992-4A309B84D1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B46C-93E3-4591-A768-DE53A4DA39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D55C-4518-4AC8-9431-0DA10428591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6AD8-352E-44A4-B98F-543CE46A87A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69D7-F0B3-45DE-82F6-0DDBE0C286D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0AA5-F718-4BBE-A3FF-95F241BF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52D9-4D5A-4764-88B4-585A4842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B744-A646-41F0-9424-F1969C86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BC43-ABDD-4BFA-BD39-0482A6E5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C88D-15BA-4AB6-93A0-A0A9FDB7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59BC-CCC9-46DF-84E6-F6004947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141F-D27E-463F-BEDD-35A98752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51F3-8EB3-481B-AFB0-A0FCDD99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D67D-831F-4B50-8856-3BBECAF4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D680-25D1-449A-B1F0-370B5E80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39AE-5680-4B7B-AF20-F88B2028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3F46-9875-4C15-A480-B59D164D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D18A-F12A-451A-9460-E2C40ECF387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hyperlink" Target="http://www.communication4all.co.uk/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Picture6.png"/>
          <p:cNvPicPr/>
          <p:nvPr/>
        </p:nvPicPr>
        <p:blipFill>
          <a:blip r:embed="rId1"/>
          <a:stretch/>
        </p:blipFill>
        <p:spPr>
          <a:xfrm>
            <a:off x="2344680" y="0"/>
            <a:ext cx="44546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2"/>
          <a:stretch/>
        </p:blipFill>
        <p:spPr>
          <a:xfrm>
            <a:off x="1219320" y="1706400"/>
            <a:ext cx="6675480" cy="1212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Image4.jpg"/>
          <p:cNvPicPr/>
          <p:nvPr/>
        </p:nvPicPr>
        <p:blipFill>
          <a:blip r:embed="rId3"/>
          <a:stretch/>
        </p:blipFill>
        <p:spPr>
          <a:xfrm>
            <a:off x="8466120" y="6286680"/>
            <a:ext cx="517680" cy="4586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Image4.jpg"/>
          <p:cNvPicPr/>
          <p:nvPr/>
        </p:nvPicPr>
        <p:blipFill>
          <a:blip r:embed="rId1"/>
          <a:stretch/>
        </p:blipFill>
        <p:spPr>
          <a:xfrm>
            <a:off x="8466120" y="6286680"/>
            <a:ext cx="517680" cy="45864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2" descr=""/>
          <p:cNvPicPr/>
          <p:nvPr/>
        </p:nvPicPr>
        <p:blipFill>
          <a:blip r:embed="rId2"/>
          <a:stretch/>
        </p:blipFill>
        <p:spPr>
          <a:xfrm>
            <a:off x="1146240" y="420840"/>
            <a:ext cx="6681600" cy="121284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1285920" y="5857920"/>
            <a:ext cx="6715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mages and Presentation ©Bev Evans,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www.communication4all.co.uk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Picture2.png"/>
          <p:cNvPicPr/>
          <p:nvPr/>
        </p:nvPicPr>
        <p:blipFill>
          <a:blip r:embed="rId4"/>
          <a:stretch/>
        </p:blipFill>
        <p:spPr>
          <a:xfrm>
            <a:off x="3500280" y="1785960"/>
            <a:ext cx="2373480" cy="36478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Picture1.png"/>
          <p:cNvPicPr/>
          <p:nvPr/>
        </p:nvPicPr>
        <p:blipFill>
          <a:blip r:embed="rId1"/>
          <a:stretch/>
        </p:blipFill>
        <p:spPr>
          <a:xfrm>
            <a:off x="2351160" y="0"/>
            <a:ext cx="44416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2357280" y="857160"/>
            <a:ext cx="44294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A bean is planted in the ground. It is dry and has a tough outer shell. It only takes a few things to make changes happe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Picture2.png"/>
          <p:cNvPicPr/>
          <p:nvPr/>
        </p:nvPicPr>
        <p:blipFill>
          <a:blip r:embed="rId1"/>
          <a:stretch/>
        </p:blipFill>
        <p:spPr>
          <a:xfrm>
            <a:off x="2341440" y="0"/>
            <a:ext cx="44611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"/>
          <p:cNvSpPr/>
          <p:nvPr/>
        </p:nvSpPr>
        <p:spPr>
          <a:xfrm>
            <a:off x="2357280" y="1500120"/>
            <a:ext cx="44294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sun provides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eat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ight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 The plant also needs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water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utrients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rom the soil to help it grow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Picture3.png"/>
          <p:cNvPicPr/>
          <p:nvPr/>
        </p:nvPicPr>
        <p:blipFill>
          <a:blip r:embed="rId1"/>
          <a:stretch/>
        </p:blipFill>
        <p:spPr>
          <a:xfrm>
            <a:off x="2346480" y="0"/>
            <a:ext cx="445104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"/>
          <p:cNvSpPr/>
          <p:nvPr/>
        </p:nvSpPr>
        <p:spPr>
          <a:xfrm>
            <a:off x="2357280" y="1714680"/>
            <a:ext cx="4429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he bean begins to sprout and grow. This stage is called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germina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Picture4.png"/>
          <p:cNvPicPr/>
          <p:nvPr/>
        </p:nvPicPr>
        <p:blipFill>
          <a:blip r:embed="rId1"/>
          <a:stretch/>
        </p:blipFill>
        <p:spPr>
          <a:xfrm>
            <a:off x="2368440" y="0"/>
            <a:ext cx="44071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"/>
          <p:cNvSpPr/>
          <p:nvPr/>
        </p:nvSpPr>
        <p:spPr>
          <a:xfrm>
            <a:off x="2357280" y="1500120"/>
            <a:ext cx="44294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he seed is swelling and getting bigger as the plant develops. The hard casing drops off, into the soi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Picture5.png"/>
          <p:cNvPicPr/>
          <p:nvPr/>
        </p:nvPicPr>
        <p:blipFill>
          <a:blip r:embed="rId1"/>
          <a:stretch/>
        </p:blipFill>
        <p:spPr>
          <a:xfrm>
            <a:off x="2347920" y="0"/>
            <a:ext cx="4448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"/>
          <p:cNvSpPr/>
          <p:nvPr/>
        </p:nvSpPr>
        <p:spPr>
          <a:xfrm>
            <a:off x="2357280" y="0"/>
            <a:ext cx="4429440" cy="62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he bea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plant begin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o develop 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stem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,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roots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and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leave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. The stem grows upwards, towards the light, while the roots are beneath the groun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Picture6.png"/>
          <p:cNvPicPr/>
          <p:nvPr/>
        </p:nvPicPr>
        <p:blipFill>
          <a:blip r:embed="rId1"/>
          <a:stretch/>
        </p:blipFill>
        <p:spPr>
          <a:xfrm>
            <a:off x="2344680" y="0"/>
            <a:ext cx="44546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"/>
          <p:cNvSpPr/>
          <p:nvPr/>
        </p:nvSpPr>
        <p:spPr>
          <a:xfrm>
            <a:off x="2357280" y="1571760"/>
            <a:ext cx="44294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The leaves open as the bean plant keeps  grow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Picture7.png"/>
          <p:cNvPicPr/>
          <p:nvPr/>
        </p:nvPicPr>
        <p:blipFill>
          <a:blip r:embed="rId1"/>
          <a:stretch/>
        </p:blipFill>
        <p:spPr>
          <a:xfrm>
            <a:off x="2347920" y="0"/>
            <a:ext cx="44481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"/>
          <p:cNvSpPr/>
          <p:nvPr/>
        </p:nvSpPr>
        <p:spPr>
          <a:xfrm>
            <a:off x="2357280" y="0"/>
            <a:ext cx="442944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he bean pla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now develops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flower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. The flowers have male and female parts so that the plant will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pollinat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Picture8.png"/>
          <p:cNvPicPr/>
          <p:nvPr/>
        </p:nvPicPr>
        <p:blipFill>
          <a:blip r:embed="rId1"/>
          <a:stretch/>
        </p:blipFill>
        <p:spPr>
          <a:xfrm>
            <a:off x="2346480" y="0"/>
            <a:ext cx="44510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"/>
          <p:cNvSpPr/>
          <p:nvPr/>
        </p:nvSpPr>
        <p:spPr>
          <a:xfrm>
            <a:off x="2357280" y="0"/>
            <a:ext cx="3780000" cy="65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he flowers on the plant are fertilised and new bean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grow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8:50:37Z</dcterms:created>
  <dc:creator>Bev Evans</dc:creator>
  <dc:description/>
  <dc:language>en-US</dc:language>
  <cp:lastModifiedBy>Bev Evans</cp:lastModifiedBy>
  <dcterms:modified xsi:type="dcterms:W3CDTF">2009-05-21T19:07:41Z</dcterms:modified>
  <cp:revision>2</cp:revision>
  <dc:subject/>
  <dc:title>Slide 1</dc:title>
</cp:coreProperties>
</file>